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20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59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20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59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5D825-ABE5-40C2-BDA2-0332034B6C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20E68-E1B0-4EBE-9E5F-17736475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E2240-D73A-4AFA-A44A-36672F64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A3A27-E333-4803-9601-FEFABCC6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EC981-733A-4C48-9143-58DAA5D0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C927F-A54E-4DB7-8467-12CEF768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E5242-A953-4FBE-B8A0-9C3BB4EA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56AE-05F3-44DA-90EF-6F703668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D1291-4470-4DD8-ACBA-3DAE14AF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AD864-1A51-4D96-AC23-115FAF12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2DB60-88B6-4809-ADCA-5C757D04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920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59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920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59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1027D-9581-44D3-94D1-4C829AEB52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TTÜ </a:t>
            </a:r>
            <a:r>
              <a:rPr b="1" lang="et-EE" sz="1000" spc="-1" strike="noStrike">
                <a:solidFill>
                  <a:srgbClr val="6666ff"/>
                </a:solidFill>
                <a:latin typeface="Arial"/>
              </a:rPr>
              <a:t>200</a:t>
            </a:r>
            <a:r>
              <a:rPr b="1" lang="en-US" sz="1000" spc="-1" strike="noStrike">
                <a:solidFill>
                  <a:srgbClr val="6666ff"/>
                </a:solidFill>
                <a:latin typeface="Arial"/>
              </a:rPr>
              <a:t>5</a:t>
            </a: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    T.Tammet    Programmeerimine</a:t>
            </a:r>
            <a:r>
              <a:rPr b="1" lang="et-EE" sz="1000" spc="-1" strike="noStrike">
                <a:solidFill>
                  <a:srgbClr val="6666ff"/>
                </a:solidFill>
                <a:latin typeface="Arial"/>
              </a:rPr>
              <a:t>: 1</a:t>
            </a:r>
            <a:r>
              <a:rPr b="1" lang="en-US" sz="1000" spc="-1" strike="noStrike">
                <a:solidFill>
                  <a:srgbClr val="6666ff"/>
                </a:solidFill>
                <a:latin typeface="Arial"/>
              </a:rPr>
              <a:t>1 </a:t>
            </a:r>
            <a:r>
              <a:rPr b="1" lang="et-EE" sz="1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loeng    lk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4BD9AB1A-4D1F-48E4-94DD-DC3A48765615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324480"/>
            <a:ext cx="777240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C483-FB0F-4F47-BCC2-B8BEFD517E1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põhikur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I001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8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Programmi näitemaatriks linnade vah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õimalik tee 2: linnad 0,2,1,3,0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ind: 4+2+9+3 = 18 (veidi odavam kui eelm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200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447920" y="228600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495288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24280" y="220968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24280" y="487692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2514600"/>
            <a:ext cx="2819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5181480"/>
            <a:ext cx="2667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274320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2880" y="266688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980720" y="2666880"/>
            <a:ext cx="2667240" cy="2210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05120" y="2743200"/>
            <a:ext cx="281916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05120" y="2041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57400" y="524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19720" y="3565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8600" y="3641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28800" y="4175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819520"/>
            <a:ext cx="0" cy="2057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2666880"/>
            <a:ext cx="2361960" cy="198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05520" y="2743200"/>
            <a:ext cx="0" cy="19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133360" y="2743200"/>
            <a:ext cx="2514600" cy="190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Programmi näitemaatriks linnade vah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õimalik tee 3: linnad 0,3,2,1,0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ind: 3+6+2+5 = 16 (siiamaani kõige odavam tee!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225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447920" y="228600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495288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220968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4280" y="487692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2514600"/>
            <a:ext cx="2819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5181480"/>
            <a:ext cx="2667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74320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266688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980720" y="2666880"/>
            <a:ext cx="2667240" cy="2210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2743200"/>
            <a:ext cx="281916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05120" y="2041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57400" y="524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19720" y="3565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28600" y="3641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28800" y="4175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057040" y="2286000"/>
            <a:ext cx="2438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905120" y="2666880"/>
            <a:ext cx="2361960" cy="198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133360" y="5410080"/>
            <a:ext cx="23619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33720" y="2666880"/>
            <a:ext cx="2514600" cy="190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Palju teede variante üldse on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simesest linnast 3 võimalikku järgmi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eisest linnast 2 võimalikku järgmist (kaks on käidud!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olmandast linnast 1 võimalik järgmine (kolm on käidu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Kokku seega: 3*2*1= 6 variant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ga, kui linnu on 10, si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9*8*7*6*5*4*3*2*1 = 362 88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Üldiselt teede arv on (linnade arvu miinus üks) faktoriaal:  (n-1)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ui linnu on 100, si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99*98*...*3*2*1 = 9.3*(10 astmes 157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250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TSP search tree on four citi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255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733920" y="114300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228600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2286000"/>
            <a:ext cx="38124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228600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38124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35053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35053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67080" y="3505320"/>
            <a:ext cx="38124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5053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4480" y="3505320"/>
            <a:ext cx="38124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457200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46483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29000" y="472428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43400" y="46483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86400" y="472428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00800" y="46483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133720" y="1371600"/>
            <a:ext cx="167616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86200" y="14479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14800" y="1371600"/>
            <a:ext cx="152388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447920" y="2590920"/>
            <a:ext cx="38088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3720" y="2590920"/>
            <a:ext cx="22860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657240" y="2590920"/>
            <a:ext cx="22860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2666880"/>
            <a:ext cx="3049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638320" y="2666880"/>
            <a:ext cx="2286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9920" y="2666880"/>
            <a:ext cx="38088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38862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38280" y="3886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57600" y="38862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95680" y="38862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15000" y="3886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53080" y="38862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24240" y="1584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48120" y="1584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243400" y="1584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81240" y="272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71600" y="272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29000" y="281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53040" y="272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19720" y="272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62720" y="2651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4876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495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5029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14800" y="495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5520" y="495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9920" y="5029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53341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09680" y="5410080"/>
            <a:ext cx="38124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5486400"/>
            <a:ext cx="38124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3400" y="548640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5486400"/>
            <a:ext cx="38124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5562720"/>
            <a:ext cx="38124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48769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71600" y="48769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50292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50292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4952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00800" y="4952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76320" y="3870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43000" y="4022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38640" y="4098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00400" y="4022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96040" y="4022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57800" y="4098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249960" y="685800"/>
            <a:ext cx="2539800" cy="173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his is an abstr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ree: it is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buil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nto memory, we ju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ave to pass the no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nd find the cheap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Arial"/>
              </a:rPr>
              <a:t>Breath-first search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600200" y="762120"/>
            <a:ext cx="5613840" cy="5436000"/>
            <a:chOff x="1600200" y="762120"/>
            <a:chExt cx="5613840" cy="5436000"/>
          </a:xfrm>
        </p:grpSpPr>
        <p:sp>
          <p:nvSpPr>
            <p:cNvPr id="324" name=""/>
            <p:cNvSpPr/>
            <p:nvPr/>
          </p:nvSpPr>
          <p:spPr>
            <a:xfrm>
              <a:off x="4184640" y="7621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13040" y="14479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50920" y="22863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27640" y="14479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70240" y="22863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65720" y="22863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89560" y="22863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22320" y="3200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51120" y="3200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84440" y="3200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65520" y="3200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94320" y="3200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03960" y="3200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32160" y="4343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22320" y="4343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17960" y="4343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27440" y="4343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46760" y="4343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36920" y="4343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56240" y="4343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65720" y="4343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75560" y="4343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32160" y="52581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117960" y="52581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727440" y="52581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946760" y="52581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88880" y="1138320"/>
              <a:ext cx="114156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332240" y="1138320"/>
              <a:ext cx="988920" cy="45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350800" y="1824120"/>
              <a:ext cx="608040" cy="53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60640" y="1824120"/>
              <a:ext cx="379440" cy="45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865400" y="1824120"/>
              <a:ext cx="608040" cy="53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75240" y="1824120"/>
              <a:ext cx="760320" cy="45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122560" y="2662200"/>
              <a:ext cx="1508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74840" y="2662560"/>
              <a:ext cx="3794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94160" y="2662560"/>
              <a:ext cx="30312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11680" y="2662560"/>
              <a:ext cx="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5703840" y="2662200"/>
              <a:ext cx="60804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13320" y="2662560"/>
              <a:ext cx="22716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122560" y="3576960"/>
              <a:ext cx="60804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655720" y="3576960"/>
              <a:ext cx="748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341520" y="3576960"/>
              <a:ext cx="45576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8720" y="3576960"/>
              <a:ext cx="748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4560840" y="3576960"/>
              <a:ext cx="22716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89440" y="3576960"/>
              <a:ext cx="30312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5627520" y="3576960"/>
              <a:ext cx="748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7520" y="3576960"/>
              <a:ext cx="68436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6618240" y="3576960"/>
              <a:ext cx="30312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654280" y="4719600"/>
              <a:ext cx="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263760" y="4719600"/>
              <a:ext cx="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3949560" y="4719600"/>
              <a:ext cx="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092560" y="4719600"/>
              <a:ext cx="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5092560" y="5634000"/>
              <a:ext cx="12960" cy="27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91120" y="806760"/>
              <a:ext cx="2966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19520" y="149256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34120" y="149256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57400" y="233064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76720" y="233064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96040" y="233064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72200" y="233064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9160" y="324504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90920" y="324504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57600" y="324504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72000" y="324504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10080" y="324504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00800" y="3245040"/>
              <a:ext cx="31320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29160" y="438804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38280" y="4388040"/>
              <a:ext cx="31320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24080" y="438804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33560" y="4388040"/>
              <a:ext cx="31320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43760" y="438804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52880" y="438804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62720" y="438804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72560" y="438804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80960" y="4388040"/>
              <a:ext cx="365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437560" y="5302440"/>
              <a:ext cx="365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124440" y="530244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33200" y="5302440"/>
              <a:ext cx="365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52880" y="5302440"/>
              <a:ext cx="31320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28440" y="47689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61960" y="56833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24080" y="56833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33560" y="56833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67080" y="47689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62360" y="47689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71840" y="47689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81680" y="47689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46760" y="57913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52160" y="5835960"/>
              <a:ext cx="365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333760" y="583596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2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52480" y="36259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19440" y="3168720"/>
              <a:ext cx="379440" cy="379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124080" y="959040"/>
              <a:ext cx="912960" cy="37944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00400" y="1643400"/>
              <a:ext cx="197964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91320" y="1568520"/>
              <a:ext cx="531720" cy="15084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828440" y="1947960"/>
              <a:ext cx="464652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6520" y="2025720"/>
              <a:ext cx="303120" cy="227160"/>
            </a:xfrm>
            <a:prstGeom prst="line">
              <a:avLst/>
            </a:prstGeom>
            <a:ln w="50760">
              <a:solidFill>
                <a:srgbClr val="000000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14600" y="2481480"/>
              <a:ext cx="60804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57600" y="2405160"/>
              <a:ext cx="76032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52880" y="2481480"/>
              <a:ext cx="106524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53080" y="2559240"/>
              <a:ext cx="379440" cy="22716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600200" y="2938680"/>
              <a:ext cx="533232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3016440"/>
              <a:ext cx="150840" cy="22716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09680" y="3395880"/>
              <a:ext cx="22716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971800" y="3395880"/>
              <a:ext cx="60804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14800" y="3395880"/>
              <a:ext cx="37944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52880" y="3395880"/>
              <a:ext cx="37944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867280" y="3395880"/>
              <a:ext cx="45576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81680" y="3549960"/>
              <a:ext cx="227160" cy="22680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1600200" y="3929400"/>
              <a:ext cx="540864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00200" y="4007160"/>
              <a:ext cx="150840" cy="379440"/>
            </a:xfrm>
            <a:prstGeom prst="line">
              <a:avLst/>
            </a:prstGeom>
            <a:ln w="50760">
              <a:solidFill>
                <a:srgbClr val="000000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752480" y="4538880"/>
              <a:ext cx="487548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Breath-first search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: find the goal closest to the initial sta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: exponential space require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438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Arial"/>
              </a:rPr>
              <a:t>Depth-first search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828440" y="762120"/>
            <a:ext cx="5472720" cy="5435640"/>
            <a:chOff x="1828440" y="762120"/>
            <a:chExt cx="5472720" cy="5435640"/>
          </a:xfrm>
        </p:grpSpPr>
        <p:sp>
          <p:nvSpPr>
            <p:cNvPr id="442" name=""/>
            <p:cNvSpPr/>
            <p:nvPr/>
          </p:nvSpPr>
          <p:spPr>
            <a:xfrm>
              <a:off x="4271760" y="7621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00160" y="14479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38400" y="22860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4760" y="14479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7360" y="22860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53200" y="22860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576680" y="22860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09800" y="3200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738600" y="3200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671560" y="3200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53000" y="3200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81800" y="3200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91080" y="3200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19280" y="4343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09800" y="4343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05080" y="4343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814560" y="4343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33880" y="4343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24400" y="4343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643360" y="4343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53200" y="4343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62680" y="4343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19280" y="52578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05080" y="52578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14560" y="52578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33880" y="52578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3276000" y="1138320"/>
              <a:ext cx="114156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19360" y="1138320"/>
              <a:ext cx="989280" cy="45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2437920" y="1824120"/>
              <a:ext cx="6080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047760" y="1824120"/>
              <a:ext cx="379440" cy="45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4952520" y="1824120"/>
              <a:ext cx="6080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62360" y="1824120"/>
              <a:ext cx="760680" cy="45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2209680" y="2661840"/>
              <a:ext cx="1508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61960" y="2662200"/>
              <a:ext cx="3794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2662200"/>
              <a:ext cx="30312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798800" y="2662200"/>
              <a:ext cx="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5790960" y="2661840"/>
              <a:ext cx="60804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00800" y="2662200"/>
              <a:ext cx="22680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2209680" y="3576600"/>
              <a:ext cx="60804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742840" y="3576600"/>
              <a:ext cx="7452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3429000" y="3576600"/>
              <a:ext cx="45540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86200" y="3576600"/>
              <a:ext cx="7452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4647960" y="3576600"/>
              <a:ext cx="22716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876560" y="3576600"/>
              <a:ext cx="3034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5714640" y="3576600"/>
              <a:ext cx="7452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15000" y="3576600"/>
              <a:ext cx="68400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 flipV="1">
              <a:off x="6705000" y="3576600"/>
              <a:ext cx="3034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2741400" y="4719240"/>
              <a:ext cx="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351240" y="4719240"/>
              <a:ext cx="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4037040" y="4719240"/>
              <a:ext cx="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180040" y="4719240"/>
              <a:ext cx="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>
              <a:off x="5179680" y="5634000"/>
              <a:ext cx="1260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278240" y="806400"/>
              <a:ext cx="2966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07000" y="149220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21600" y="149220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44520" y="233028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64200" y="233028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583160" y="233028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59320" y="233028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16280" y="324468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040" y="324468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44720" y="324468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59120" y="324468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97560" y="324468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87920" y="3244680"/>
              <a:ext cx="31320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16280" y="438768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25400" y="4387680"/>
              <a:ext cx="31320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11560" y="438768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21040" y="4387680"/>
              <a:ext cx="31320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430880" y="438768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40360" y="438768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650200" y="438768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59680" y="438768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68440" y="4387680"/>
              <a:ext cx="365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525040" y="5302080"/>
              <a:ext cx="365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211560" y="530208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20320" y="5302080"/>
              <a:ext cx="365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40000" y="5302080"/>
              <a:ext cx="31320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915920" y="47689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449080" y="56833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211200" y="56833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20680" y="56833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354200" y="47689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649480" y="47689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59320" y="47689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68800" y="47689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33880" y="57913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039640" y="5835600"/>
              <a:ext cx="365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420880" y="583560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2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839600" y="36259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3124080" y="909720"/>
              <a:ext cx="836640" cy="379440"/>
            </a:xfrm>
            <a:prstGeom prst="line">
              <a:avLst/>
            </a:prstGeom>
            <a:ln w="50760">
              <a:solidFill>
                <a:srgbClr val="550bc1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2133360" y="1671480"/>
              <a:ext cx="532080" cy="608040"/>
            </a:xfrm>
            <a:prstGeom prst="line">
              <a:avLst/>
            </a:prstGeom>
            <a:ln w="50760">
              <a:solidFill>
                <a:srgbClr val="550bc1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1828440" y="2433600"/>
              <a:ext cx="150840" cy="836640"/>
            </a:xfrm>
            <a:prstGeom prst="line">
              <a:avLst/>
            </a:prstGeom>
            <a:ln w="50760">
              <a:solidFill>
                <a:srgbClr val="550bc1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2284200" y="2890800"/>
              <a:ext cx="0" cy="760320"/>
            </a:xfrm>
            <a:prstGeom prst="line">
              <a:avLst/>
            </a:prstGeom>
            <a:ln w="50760">
              <a:solidFill>
                <a:srgbClr val="550bc1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38280" y="2814480"/>
              <a:ext cx="150840" cy="760680"/>
            </a:xfrm>
            <a:prstGeom prst="line">
              <a:avLst/>
            </a:prstGeom>
            <a:ln w="50760">
              <a:solidFill>
                <a:srgbClr val="550bc1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1980720" y="3728880"/>
              <a:ext cx="531720" cy="532080"/>
            </a:xfrm>
            <a:prstGeom prst="line">
              <a:avLst/>
            </a:prstGeom>
            <a:ln w="50760">
              <a:solidFill>
                <a:srgbClr val="550bc1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2209680" y="3957480"/>
              <a:ext cx="455760" cy="532080"/>
            </a:xfrm>
            <a:prstGeom prst="line">
              <a:avLst/>
            </a:prstGeom>
            <a:ln w="50760">
              <a:solidFill>
                <a:srgbClr val="550bc1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894040" y="3652920"/>
              <a:ext cx="0" cy="912600"/>
            </a:xfrm>
            <a:prstGeom prst="line">
              <a:avLst/>
            </a:prstGeom>
            <a:ln w="50760">
              <a:solidFill>
                <a:srgbClr val="550bc1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894040" y="4719600"/>
              <a:ext cx="0" cy="836640"/>
            </a:xfrm>
            <a:prstGeom prst="line">
              <a:avLst/>
            </a:prstGeom>
            <a:ln w="50760">
              <a:solidFill>
                <a:srgbClr val="550bc1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Depth-first search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: limited space require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always find the go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always find the goal closest to the initial st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take a very long time before finding a goal that may be close to the initial s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54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Limited-depth depth-first search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ordinary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FS, but the search is limited to a predefined dep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he dep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each state is recorded as it is generated.  When picking the next state to expand, only those with depth less or equal than the current depth are expand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if we pick a too small depth limit, we may fail to find the answ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hat is a good depth limi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54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Iteratively deepening depth-first search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ordinary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FS, but the search is limited to a predefined dep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he dep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each state is recorded as it is generated.  When picking the next state to expand, only those with depth less or equal than the current depth are expand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blem: what is a good depth limi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swer: make it adaptiv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Generate solutions at depth 1, 2, …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ll the nodes of a given depth are explored, the current depth is increment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55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Loengu sisu: sissejuhatus otsingualgoritmides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ravelling salesman problem (TS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eamised otsingualgoritmide tüüb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Näiteprogramme ja üks optime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Depth-first searchi täiend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Lisamaterjale uurimise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8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696600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Arial"/>
              </a:rPr>
              <a:t>Iterative deepening search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7920" y="140328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90720" y="1447920"/>
            <a:ext cx="296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775560" y="12510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03960" y="19368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918560" y="19368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780160" y="1627200"/>
            <a:ext cx="114120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23160" y="1627200"/>
            <a:ext cx="98892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58000" y="1295280"/>
            <a:ext cx="296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86400" y="1981080"/>
            <a:ext cx="3470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001000" y="1981080"/>
            <a:ext cx="3470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318360" y="361332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946760" y="429912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84640" y="51372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61360" y="429912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03960" y="51372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299440" y="51372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22920" y="51372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5322960" y="3989520"/>
            <a:ext cx="114120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465960" y="3989520"/>
            <a:ext cx="98892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84160" y="4675320"/>
            <a:ext cx="60804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94360" y="4675320"/>
            <a:ext cx="37944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6998760" y="4675320"/>
            <a:ext cx="60804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608960" y="4675320"/>
            <a:ext cx="76032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00800" y="3657600"/>
            <a:ext cx="296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29200" y="4343400"/>
            <a:ext cx="3470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543800" y="4343400"/>
            <a:ext cx="3470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67080" y="5181480"/>
            <a:ext cx="330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86400" y="5181480"/>
            <a:ext cx="3470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705720" y="5181480"/>
            <a:ext cx="3470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1880" y="5181480"/>
            <a:ext cx="330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1066680"/>
            <a:ext cx="449568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09480" y="3200400"/>
            <a:ext cx="8229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9480" y="1219320"/>
            <a:ext cx="2057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12960" y="2133360"/>
            <a:ext cx="133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a2da2"/>
                </a:solidFill>
                <a:latin typeface="Times New Roman"/>
                <a:ea typeface="Times New Roman (Hebrew)"/>
              </a:rPr>
              <a:t>Limit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723200" y="2437920"/>
            <a:ext cx="133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a2da2"/>
                </a:solidFill>
                <a:latin typeface="Times New Roman"/>
                <a:ea typeface="Times New Roman (Hebrew)"/>
              </a:rPr>
              <a:t>Limit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17880" y="5409720"/>
            <a:ext cx="133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a2da2"/>
                </a:solidFill>
                <a:latin typeface="Times New Roman"/>
                <a:ea typeface="Times New Roman (Hebrew)"/>
              </a:rPr>
              <a:t>Limit =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About iteratively deepening search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Not so bad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 it loo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Why bad: t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e root subtree is computed every time instead of storing i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st of the solutions are in the bot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leaves anyhow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+ 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+ …+ 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O(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ing the search tak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+1)1 + (d)b + (d - 1)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(1)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O(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=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 = 5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nodes searched i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111,1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vs. 123,456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 repeated </a:t>
            </a:r>
            <a:r>
              <a:rPr b="0" i="1" lang="he-IL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only 11% more!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596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Travelling salesman proble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raveller starts from Tallinn, 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 visit some cities: New York, London, Tokyo, …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come back to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allin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city visited exactly once (except first and last city is b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allin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t of travel between each pair of cities is give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i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To minimize the cost. If possible, find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ur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with the lea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st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9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a small and simple ca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9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143720" y="1676520"/>
            <a:ext cx="6439680" cy="4442760"/>
            <a:chOff x="1143720" y="1676520"/>
            <a:chExt cx="6439680" cy="4442760"/>
          </a:xfrm>
        </p:grpSpPr>
        <p:sp>
          <p:nvSpPr>
            <p:cNvPr id="102" name=""/>
            <p:cNvSpPr/>
            <p:nvPr/>
          </p:nvSpPr>
          <p:spPr>
            <a:xfrm>
              <a:off x="1877760" y="1676520"/>
              <a:ext cx="3484800" cy="4114800"/>
            </a:xfrm>
            <a:custGeom>
              <a:avLst/>
              <a:gdLst/>
              <a:ahLst/>
              <a:rect l="l" t="t" r="r" b="b"/>
              <a:pathLst>
                <a:path w="2195" h="2592">
                  <a:moveTo>
                    <a:pt x="471" y="337"/>
                  </a:moveTo>
                  <a:cubicBezTo>
                    <a:pt x="510" y="324"/>
                    <a:pt x="535" y="305"/>
                    <a:pt x="576" y="295"/>
                  </a:cubicBezTo>
                  <a:cubicBezTo>
                    <a:pt x="627" y="315"/>
                    <a:pt x="644" y="342"/>
                    <a:pt x="682" y="305"/>
                  </a:cubicBezTo>
                  <a:cubicBezTo>
                    <a:pt x="772" y="312"/>
                    <a:pt x="847" y="324"/>
                    <a:pt x="934" y="337"/>
                  </a:cubicBezTo>
                  <a:cubicBezTo>
                    <a:pt x="988" y="372"/>
                    <a:pt x="997" y="354"/>
                    <a:pt x="1029" y="305"/>
                  </a:cubicBezTo>
                  <a:cubicBezTo>
                    <a:pt x="1019" y="227"/>
                    <a:pt x="990" y="189"/>
                    <a:pt x="1071" y="168"/>
                  </a:cubicBezTo>
                  <a:cubicBezTo>
                    <a:pt x="1137" y="35"/>
                    <a:pt x="1153" y="63"/>
                    <a:pt x="1324" y="53"/>
                  </a:cubicBezTo>
                  <a:cubicBezTo>
                    <a:pt x="1374" y="35"/>
                    <a:pt x="1419" y="14"/>
                    <a:pt x="1471" y="32"/>
                  </a:cubicBezTo>
                  <a:cubicBezTo>
                    <a:pt x="1536" y="18"/>
                    <a:pt x="1509" y="31"/>
                    <a:pt x="1555" y="0"/>
                  </a:cubicBezTo>
                  <a:cubicBezTo>
                    <a:pt x="1575" y="2"/>
                    <a:pt x="1688" y="7"/>
                    <a:pt x="1713" y="32"/>
                  </a:cubicBezTo>
                  <a:cubicBezTo>
                    <a:pt x="1732" y="51"/>
                    <a:pt x="1734" y="81"/>
                    <a:pt x="1745" y="105"/>
                  </a:cubicBezTo>
                  <a:cubicBezTo>
                    <a:pt x="1735" y="154"/>
                    <a:pt x="1714" y="184"/>
                    <a:pt x="1703" y="232"/>
                  </a:cubicBezTo>
                  <a:cubicBezTo>
                    <a:pt x="1706" y="256"/>
                    <a:pt x="1705" y="282"/>
                    <a:pt x="1713" y="305"/>
                  </a:cubicBezTo>
                  <a:cubicBezTo>
                    <a:pt x="1719" y="322"/>
                    <a:pt x="1743" y="329"/>
                    <a:pt x="1745" y="347"/>
                  </a:cubicBezTo>
                  <a:cubicBezTo>
                    <a:pt x="1748" y="376"/>
                    <a:pt x="1731" y="404"/>
                    <a:pt x="1724" y="432"/>
                  </a:cubicBezTo>
                  <a:cubicBezTo>
                    <a:pt x="1741" y="1036"/>
                    <a:pt x="1704" y="622"/>
                    <a:pt x="1755" y="874"/>
                  </a:cubicBezTo>
                  <a:cubicBezTo>
                    <a:pt x="1762" y="909"/>
                    <a:pt x="1751" y="954"/>
                    <a:pt x="1776" y="979"/>
                  </a:cubicBezTo>
                  <a:cubicBezTo>
                    <a:pt x="1801" y="1004"/>
                    <a:pt x="1835" y="1018"/>
                    <a:pt x="1861" y="1042"/>
                  </a:cubicBezTo>
                  <a:cubicBezTo>
                    <a:pt x="1873" y="1128"/>
                    <a:pt x="1901" y="1209"/>
                    <a:pt x="1913" y="1295"/>
                  </a:cubicBezTo>
                  <a:cubicBezTo>
                    <a:pt x="1927" y="1392"/>
                    <a:pt x="1900" y="1363"/>
                    <a:pt x="1955" y="1400"/>
                  </a:cubicBezTo>
                  <a:cubicBezTo>
                    <a:pt x="1959" y="1456"/>
                    <a:pt x="1957" y="1513"/>
                    <a:pt x="1966" y="1569"/>
                  </a:cubicBezTo>
                  <a:cubicBezTo>
                    <a:pt x="1971" y="1598"/>
                    <a:pt x="1989" y="1624"/>
                    <a:pt x="1997" y="1653"/>
                  </a:cubicBezTo>
                  <a:cubicBezTo>
                    <a:pt x="2011" y="1701"/>
                    <a:pt x="2022" y="1750"/>
                    <a:pt x="2029" y="1800"/>
                  </a:cubicBezTo>
                  <a:cubicBezTo>
                    <a:pt x="2038" y="1870"/>
                    <a:pt x="2042" y="1899"/>
                    <a:pt x="2071" y="1958"/>
                  </a:cubicBezTo>
                  <a:cubicBezTo>
                    <a:pt x="1947" y="2002"/>
                    <a:pt x="2195" y="1917"/>
                    <a:pt x="1808" y="1979"/>
                  </a:cubicBezTo>
                  <a:cubicBezTo>
                    <a:pt x="1793" y="1981"/>
                    <a:pt x="1789" y="2003"/>
                    <a:pt x="1776" y="2011"/>
                  </a:cubicBezTo>
                  <a:cubicBezTo>
                    <a:pt x="1767" y="2017"/>
                    <a:pt x="1755" y="2018"/>
                    <a:pt x="1745" y="2021"/>
                  </a:cubicBezTo>
                  <a:cubicBezTo>
                    <a:pt x="1698" y="2068"/>
                    <a:pt x="1690" y="2103"/>
                    <a:pt x="1671" y="2169"/>
                  </a:cubicBezTo>
                  <a:cubicBezTo>
                    <a:pt x="1657" y="2269"/>
                    <a:pt x="1666" y="2326"/>
                    <a:pt x="1566" y="2390"/>
                  </a:cubicBezTo>
                  <a:cubicBezTo>
                    <a:pt x="1548" y="2401"/>
                    <a:pt x="1524" y="2397"/>
                    <a:pt x="1503" y="2400"/>
                  </a:cubicBezTo>
                  <a:cubicBezTo>
                    <a:pt x="1492" y="2407"/>
                    <a:pt x="1483" y="2417"/>
                    <a:pt x="1471" y="2421"/>
                  </a:cubicBezTo>
                  <a:cubicBezTo>
                    <a:pt x="1444" y="2431"/>
                    <a:pt x="1387" y="2442"/>
                    <a:pt x="1387" y="2442"/>
                  </a:cubicBezTo>
                  <a:cubicBezTo>
                    <a:pt x="1336" y="2477"/>
                    <a:pt x="1288" y="2494"/>
                    <a:pt x="1229" y="2516"/>
                  </a:cubicBezTo>
                  <a:cubicBezTo>
                    <a:pt x="1215" y="2527"/>
                    <a:pt x="1202" y="2539"/>
                    <a:pt x="1187" y="2548"/>
                  </a:cubicBezTo>
                  <a:cubicBezTo>
                    <a:pt x="1160" y="2564"/>
                    <a:pt x="1103" y="2590"/>
                    <a:pt x="1103" y="2590"/>
                  </a:cubicBezTo>
                  <a:cubicBezTo>
                    <a:pt x="1089" y="2586"/>
                    <a:pt x="1068" y="2592"/>
                    <a:pt x="1060" y="2579"/>
                  </a:cubicBezTo>
                  <a:cubicBezTo>
                    <a:pt x="1038" y="2545"/>
                    <a:pt x="1056" y="2453"/>
                    <a:pt x="1060" y="2421"/>
                  </a:cubicBezTo>
                  <a:cubicBezTo>
                    <a:pt x="1046" y="2397"/>
                    <a:pt x="1029" y="2374"/>
                    <a:pt x="1018" y="2348"/>
                  </a:cubicBezTo>
                  <a:cubicBezTo>
                    <a:pt x="1008" y="2324"/>
                    <a:pt x="1008" y="2297"/>
                    <a:pt x="997" y="2274"/>
                  </a:cubicBezTo>
                  <a:cubicBezTo>
                    <a:pt x="983" y="2245"/>
                    <a:pt x="956" y="2239"/>
                    <a:pt x="934" y="2221"/>
                  </a:cubicBezTo>
                  <a:cubicBezTo>
                    <a:pt x="883" y="2179"/>
                    <a:pt x="831" y="2142"/>
                    <a:pt x="776" y="2106"/>
                  </a:cubicBezTo>
                  <a:cubicBezTo>
                    <a:pt x="732" y="2077"/>
                    <a:pt x="671" y="2100"/>
                    <a:pt x="618" y="2095"/>
                  </a:cubicBezTo>
                  <a:cubicBezTo>
                    <a:pt x="590" y="2092"/>
                    <a:pt x="562" y="2088"/>
                    <a:pt x="534" y="2084"/>
                  </a:cubicBezTo>
                  <a:cubicBezTo>
                    <a:pt x="519" y="2005"/>
                    <a:pt x="516" y="1948"/>
                    <a:pt x="429" y="1927"/>
                  </a:cubicBezTo>
                  <a:cubicBezTo>
                    <a:pt x="370" y="1838"/>
                    <a:pt x="246" y="1894"/>
                    <a:pt x="155" y="1916"/>
                  </a:cubicBezTo>
                  <a:cubicBezTo>
                    <a:pt x="152" y="1927"/>
                    <a:pt x="154" y="1941"/>
                    <a:pt x="145" y="1948"/>
                  </a:cubicBezTo>
                  <a:cubicBezTo>
                    <a:pt x="127" y="1961"/>
                    <a:pt x="102" y="1962"/>
                    <a:pt x="81" y="1969"/>
                  </a:cubicBezTo>
                  <a:cubicBezTo>
                    <a:pt x="69" y="1973"/>
                    <a:pt x="61" y="1984"/>
                    <a:pt x="50" y="1990"/>
                  </a:cubicBezTo>
                  <a:cubicBezTo>
                    <a:pt x="40" y="1995"/>
                    <a:pt x="29" y="1997"/>
                    <a:pt x="18" y="2000"/>
                  </a:cubicBezTo>
                  <a:cubicBezTo>
                    <a:pt x="2" y="1932"/>
                    <a:pt x="0" y="1977"/>
                    <a:pt x="50" y="1916"/>
                  </a:cubicBezTo>
                  <a:cubicBezTo>
                    <a:pt x="69" y="1893"/>
                    <a:pt x="103" y="1842"/>
                    <a:pt x="103" y="1842"/>
                  </a:cubicBezTo>
                  <a:cubicBezTo>
                    <a:pt x="112" y="1815"/>
                    <a:pt x="140" y="1797"/>
                    <a:pt x="145" y="1769"/>
                  </a:cubicBezTo>
                  <a:cubicBezTo>
                    <a:pt x="154" y="1721"/>
                    <a:pt x="130" y="1612"/>
                    <a:pt x="176" y="1558"/>
                  </a:cubicBezTo>
                  <a:cubicBezTo>
                    <a:pt x="200" y="1530"/>
                    <a:pt x="251" y="1515"/>
                    <a:pt x="282" y="1495"/>
                  </a:cubicBezTo>
                  <a:cubicBezTo>
                    <a:pt x="313" y="1498"/>
                    <a:pt x="345" y="1499"/>
                    <a:pt x="376" y="1505"/>
                  </a:cubicBezTo>
                  <a:cubicBezTo>
                    <a:pt x="404" y="1510"/>
                    <a:pt x="460" y="1527"/>
                    <a:pt x="460" y="1527"/>
                  </a:cubicBezTo>
                  <a:cubicBezTo>
                    <a:pt x="496" y="1561"/>
                    <a:pt x="501" y="1541"/>
                    <a:pt x="545" y="1527"/>
                  </a:cubicBezTo>
                  <a:cubicBezTo>
                    <a:pt x="531" y="1444"/>
                    <a:pt x="535" y="1366"/>
                    <a:pt x="555" y="1284"/>
                  </a:cubicBezTo>
                  <a:cubicBezTo>
                    <a:pt x="544" y="1207"/>
                    <a:pt x="520" y="1131"/>
                    <a:pt x="524" y="1053"/>
                  </a:cubicBezTo>
                  <a:cubicBezTo>
                    <a:pt x="529" y="957"/>
                    <a:pt x="575" y="871"/>
                    <a:pt x="597" y="779"/>
                  </a:cubicBezTo>
                  <a:cubicBezTo>
                    <a:pt x="586" y="712"/>
                    <a:pt x="581" y="698"/>
                    <a:pt x="534" y="653"/>
                  </a:cubicBezTo>
                  <a:cubicBezTo>
                    <a:pt x="527" y="628"/>
                    <a:pt x="527" y="600"/>
                    <a:pt x="513" y="579"/>
                  </a:cubicBezTo>
                  <a:cubicBezTo>
                    <a:pt x="504" y="566"/>
                    <a:pt x="481" y="570"/>
                    <a:pt x="471" y="558"/>
                  </a:cubicBezTo>
                  <a:cubicBezTo>
                    <a:pt x="454" y="538"/>
                    <a:pt x="458" y="508"/>
                    <a:pt x="450" y="484"/>
                  </a:cubicBezTo>
                  <a:cubicBezTo>
                    <a:pt x="458" y="459"/>
                    <a:pt x="479" y="437"/>
                    <a:pt x="482" y="411"/>
                  </a:cubicBezTo>
                  <a:cubicBezTo>
                    <a:pt x="484" y="386"/>
                    <a:pt x="475" y="362"/>
                    <a:pt x="471" y="337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43200" y="2809800"/>
              <a:ext cx="1887480" cy="430200"/>
            </a:xfrm>
            <a:custGeom>
              <a:avLst/>
              <a:gdLst/>
              <a:ahLst/>
              <a:rect l="l" t="t" r="r" b="b"/>
              <a:pathLst>
                <a:path w="1189" h="271">
                  <a:moveTo>
                    <a:pt x="0" y="223"/>
                  </a:moveTo>
                  <a:cubicBezTo>
                    <a:pt x="113" y="234"/>
                    <a:pt x="260" y="271"/>
                    <a:pt x="337" y="170"/>
                  </a:cubicBezTo>
                  <a:cubicBezTo>
                    <a:pt x="438" y="185"/>
                    <a:pt x="527" y="209"/>
                    <a:pt x="631" y="223"/>
                  </a:cubicBezTo>
                  <a:cubicBezTo>
                    <a:pt x="646" y="179"/>
                    <a:pt x="615" y="113"/>
                    <a:pt x="652" y="86"/>
                  </a:cubicBezTo>
                  <a:cubicBezTo>
                    <a:pt x="681" y="65"/>
                    <a:pt x="723" y="98"/>
                    <a:pt x="758" y="107"/>
                  </a:cubicBezTo>
                  <a:cubicBezTo>
                    <a:pt x="801" y="119"/>
                    <a:pt x="884" y="149"/>
                    <a:pt x="884" y="149"/>
                  </a:cubicBezTo>
                  <a:cubicBezTo>
                    <a:pt x="891" y="139"/>
                    <a:pt x="902" y="130"/>
                    <a:pt x="905" y="118"/>
                  </a:cubicBezTo>
                  <a:cubicBezTo>
                    <a:pt x="938" y="0"/>
                    <a:pt x="867" y="28"/>
                    <a:pt x="1021" y="44"/>
                  </a:cubicBezTo>
                  <a:cubicBezTo>
                    <a:pt x="1031" y="65"/>
                    <a:pt x="1043" y="86"/>
                    <a:pt x="1052" y="107"/>
                  </a:cubicBezTo>
                  <a:cubicBezTo>
                    <a:pt x="1057" y="117"/>
                    <a:pt x="1052" y="139"/>
                    <a:pt x="1063" y="139"/>
                  </a:cubicBezTo>
                  <a:cubicBezTo>
                    <a:pt x="1074" y="139"/>
                    <a:pt x="1068" y="117"/>
                    <a:pt x="1073" y="107"/>
                  </a:cubicBezTo>
                  <a:cubicBezTo>
                    <a:pt x="1079" y="96"/>
                    <a:pt x="1087" y="86"/>
                    <a:pt x="1094" y="76"/>
                  </a:cubicBezTo>
                  <a:cubicBezTo>
                    <a:pt x="1182" y="98"/>
                    <a:pt x="1150" y="97"/>
                    <a:pt x="1189" y="9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30680" y="2695680"/>
              <a:ext cx="2003400" cy="2466720"/>
            </a:xfrm>
            <a:custGeom>
              <a:avLst/>
              <a:gdLst/>
              <a:ahLst/>
              <a:rect l="l" t="t" r="r" b="b"/>
              <a:pathLst>
                <a:path w="1262" h="1554">
                  <a:moveTo>
                    <a:pt x="0" y="169"/>
                  </a:moveTo>
                  <a:cubicBezTo>
                    <a:pt x="49" y="172"/>
                    <a:pt x="100" y="166"/>
                    <a:pt x="148" y="179"/>
                  </a:cubicBezTo>
                  <a:cubicBezTo>
                    <a:pt x="190" y="191"/>
                    <a:pt x="189" y="243"/>
                    <a:pt x="221" y="263"/>
                  </a:cubicBezTo>
                  <a:cubicBezTo>
                    <a:pt x="246" y="279"/>
                    <a:pt x="278" y="275"/>
                    <a:pt x="306" y="284"/>
                  </a:cubicBezTo>
                  <a:cubicBezTo>
                    <a:pt x="368" y="326"/>
                    <a:pt x="386" y="314"/>
                    <a:pt x="463" y="295"/>
                  </a:cubicBezTo>
                  <a:cubicBezTo>
                    <a:pt x="484" y="281"/>
                    <a:pt x="506" y="267"/>
                    <a:pt x="527" y="253"/>
                  </a:cubicBezTo>
                  <a:cubicBezTo>
                    <a:pt x="539" y="245"/>
                    <a:pt x="555" y="247"/>
                    <a:pt x="569" y="242"/>
                  </a:cubicBezTo>
                  <a:cubicBezTo>
                    <a:pt x="613" y="225"/>
                    <a:pt x="610" y="222"/>
                    <a:pt x="642" y="190"/>
                  </a:cubicBezTo>
                  <a:cubicBezTo>
                    <a:pt x="667" y="113"/>
                    <a:pt x="709" y="28"/>
                    <a:pt x="790" y="0"/>
                  </a:cubicBezTo>
                  <a:cubicBezTo>
                    <a:pt x="809" y="20"/>
                    <a:pt x="823" y="44"/>
                    <a:pt x="842" y="63"/>
                  </a:cubicBezTo>
                  <a:cubicBezTo>
                    <a:pt x="876" y="97"/>
                    <a:pt x="900" y="107"/>
                    <a:pt x="927" y="148"/>
                  </a:cubicBezTo>
                  <a:cubicBezTo>
                    <a:pt x="951" y="223"/>
                    <a:pt x="943" y="304"/>
                    <a:pt x="969" y="379"/>
                  </a:cubicBezTo>
                  <a:cubicBezTo>
                    <a:pt x="972" y="435"/>
                    <a:pt x="961" y="495"/>
                    <a:pt x="979" y="548"/>
                  </a:cubicBezTo>
                  <a:cubicBezTo>
                    <a:pt x="993" y="589"/>
                    <a:pt x="1083" y="599"/>
                    <a:pt x="1116" y="611"/>
                  </a:cubicBezTo>
                  <a:cubicBezTo>
                    <a:pt x="1262" y="827"/>
                    <a:pt x="1115" y="598"/>
                    <a:pt x="1158" y="1306"/>
                  </a:cubicBezTo>
                  <a:cubicBezTo>
                    <a:pt x="1160" y="1334"/>
                    <a:pt x="1187" y="1354"/>
                    <a:pt x="1200" y="1379"/>
                  </a:cubicBezTo>
                  <a:cubicBezTo>
                    <a:pt x="1211" y="1432"/>
                    <a:pt x="1229" y="1459"/>
                    <a:pt x="1253" y="1506"/>
                  </a:cubicBezTo>
                  <a:cubicBezTo>
                    <a:pt x="1249" y="1520"/>
                    <a:pt x="1255" y="1542"/>
                    <a:pt x="1242" y="1548"/>
                  </a:cubicBezTo>
                  <a:cubicBezTo>
                    <a:pt x="1231" y="1554"/>
                    <a:pt x="1222" y="1533"/>
                    <a:pt x="1211" y="1527"/>
                  </a:cubicBezTo>
                  <a:cubicBezTo>
                    <a:pt x="1170" y="1506"/>
                    <a:pt x="1129" y="1490"/>
                    <a:pt x="1085" y="1474"/>
                  </a:cubicBezTo>
                  <a:cubicBezTo>
                    <a:pt x="1048" y="1439"/>
                    <a:pt x="1008" y="1440"/>
                    <a:pt x="958" y="1432"/>
                  </a:cubicBezTo>
                  <a:cubicBezTo>
                    <a:pt x="944" y="1425"/>
                    <a:pt x="931" y="1417"/>
                    <a:pt x="916" y="1411"/>
                  </a:cubicBezTo>
                  <a:cubicBezTo>
                    <a:pt x="902" y="1406"/>
                    <a:pt x="886" y="1408"/>
                    <a:pt x="874" y="1400"/>
                  </a:cubicBezTo>
                  <a:cubicBezTo>
                    <a:pt x="864" y="1393"/>
                    <a:pt x="863" y="1376"/>
                    <a:pt x="853" y="1369"/>
                  </a:cubicBezTo>
                  <a:cubicBezTo>
                    <a:pt x="827" y="1351"/>
                    <a:pt x="769" y="1327"/>
                    <a:pt x="769" y="1327"/>
                  </a:cubicBezTo>
                  <a:cubicBezTo>
                    <a:pt x="726" y="1348"/>
                    <a:pt x="685" y="1358"/>
                    <a:pt x="642" y="1379"/>
                  </a:cubicBezTo>
                  <a:cubicBezTo>
                    <a:pt x="595" y="1372"/>
                    <a:pt x="560" y="1362"/>
                    <a:pt x="516" y="1348"/>
                  </a:cubicBezTo>
                  <a:cubicBezTo>
                    <a:pt x="468" y="1300"/>
                    <a:pt x="460" y="1305"/>
                    <a:pt x="390" y="1316"/>
                  </a:cubicBezTo>
                  <a:cubicBezTo>
                    <a:pt x="379" y="1323"/>
                    <a:pt x="371" y="1336"/>
                    <a:pt x="358" y="1337"/>
                  </a:cubicBezTo>
                  <a:cubicBezTo>
                    <a:pt x="269" y="1347"/>
                    <a:pt x="285" y="1337"/>
                    <a:pt x="306" y="131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25560" y="4125960"/>
              <a:ext cx="2206800" cy="691920"/>
            </a:xfrm>
            <a:custGeom>
              <a:avLst/>
              <a:gdLst/>
              <a:ahLst/>
              <a:rect l="l" t="t" r="r" b="b"/>
              <a:pathLst>
                <a:path w="1390" h="436">
                  <a:moveTo>
                    <a:pt x="0" y="5"/>
                  </a:moveTo>
                  <a:cubicBezTo>
                    <a:pt x="39" y="8"/>
                    <a:pt x="80" y="0"/>
                    <a:pt x="116" y="15"/>
                  </a:cubicBezTo>
                  <a:cubicBezTo>
                    <a:pt x="213" y="55"/>
                    <a:pt x="146" y="125"/>
                    <a:pt x="221" y="152"/>
                  </a:cubicBezTo>
                  <a:cubicBezTo>
                    <a:pt x="337" y="140"/>
                    <a:pt x="363" y="131"/>
                    <a:pt x="484" y="141"/>
                  </a:cubicBezTo>
                  <a:cubicBezTo>
                    <a:pt x="604" y="166"/>
                    <a:pt x="488" y="129"/>
                    <a:pt x="558" y="184"/>
                  </a:cubicBezTo>
                  <a:cubicBezTo>
                    <a:pt x="602" y="219"/>
                    <a:pt x="670" y="200"/>
                    <a:pt x="727" y="205"/>
                  </a:cubicBezTo>
                  <a:cubicBezTo>
                    <a:pt x="788" y="246"/>
                    <a:pt x="725" y="215"/>
                    <a:pt x="800" y="215"/>
                  </a:cubicBezTo>
                  <a:cubicBezTo>
                    <a:pt x="874" y="215"/>
                    <a:pt x="947" y="222"/>
                    <a:pt x="1021" y="226"/>
                  </a:cubicBezTo>
                  <a:cubicBezTo>
                    <a:pt x="1089" y="294"/>
                    <a:pt x="1129" y="275"/>
                    <a:pt x="1221" y="289"/>
                  </a:cubicBezTo>
                  <a:cubicBezTo>
                    <a:pt x="1261" y="327"/>
                    <a:pt x="1295" y="361"/>
                    <a:pt x="1348" y="373"/>
                  </a:cubicBezTo>
                  <a:cubicBezTo>
                    <a:pt x="1358" y="380"/>
                    <a:pt x="1372" y="384"/>
                    <a:pt x="1379" y="394"/>
                  </a:cubicBezTo>
                  <a:cubicBezTo>
                    <a:pt x="1387" y="406"/>
                    <a:pt x="1390" y="436"/>
                    <a:pt x="1390" y="43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66880" y="4040280"/>
              <a:ext cx="152280" cy="152280"/>
            </a:xfrm>
            <a:prstGeom prst="ellipse">
              <a:avLst/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28800" y="4726080"/>
              <a:ext cx="152280" cy="152280"/>
            </a:xfrm>
            <a:prstGeom prst="ellipse">
              <a:avLst/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04960" y="5716440"/>
              <a:ext cx="152640" cy="152640"/>
            </a:xfrm>
            <a:prstGeom prst="ellipse">
              <a:avLst/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29200" y="4726080"/>
              <a:ext cx="152280" cy="152280"/>
            </a:xfrm>
            <a:prstGeom prst="ellipse">
              <a:avLst/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76760" y="5030640"/>
              <a:ext cx="152640" cy="152640"/>
            </a:xfrm>
            <a:prstGeom prst="ellipse">
              <a:avLst/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90960" y="2668680"/>
              <a:ext cx="152640" cy="152280"/>
            </a:xfrm>
            <a:prstGeom prst="ellipse">
              <a:avLst/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95680" y="1982880"/>
              <a:ext cx="152280" cy="152280"/>
            </a:xfrm>
            <a:prstGeom prst="ellipse">
              <a:avLst/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90560" y="2135160"/>
              <a:ext cx="152640" cy="152280"/>
            </a:xfrm>
            <a:prstGeom prst="ellipse">
              <a:avLst/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66880" y="3125880"/>
              <a:ext cx="152280" cy="152280"/>
            </a:xfrm>
            <a:prstGeom prst="ellipse">
              <a:avLst/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0" y="2897280"/>
              <a:ext cx="152280" cy="152280"/>
            </a:xfrm>
            <a:prstGeom prst="ellipse">
              <a:avLst/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43560" y="5659560"/>
              <a:ext cx="164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Times New Roman"/>
                </a:rPr>
                <a:t>Muddy Ga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61800" y="482112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Times New Roman"/>
                </a:rPr>
                <a:t>Casp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86040" y="51260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Times New Roman"/>
                </a:rPr>
                <a:t>Dougl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41440" y="2382840"/>
              <a:ext cx="118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Times New Roman"/>
                </a:rPr>
                <a:t>Gillett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72200" y="2516040"/>
              <a:ext cx="11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Times New Roman"/>
                </a:rPr>
                <a:t>Buffal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08800" y="169704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Times New Roman"/>
                </a:rPr>
                <a:t>Sherid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71960" y="192564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Times New Roman"/>
                </a:rPr>
                <a:t>Greybul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31720" y="291636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Times New Roman"/>
                </a:rPr>
                <a:t>Worla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04760" y="36021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Times New Roman"/>
                </a:rPr>
                <a:t>Shoshon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43720" y="480204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Times New Roman"/>
                </a:rPr>
                <a:t>Lan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570200" y="838080"/>
            <a:ext cx="43855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Part of Wyoming’s (a USA State) </a:t>
            </a:r>
            <a:br>
              <a:rPr sz="2400"/>
            </a:b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Road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a bit bigger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30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094080" y="1143000"/>
            <a:ext cx="24454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4 cities of Q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qapoints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397320" cy="541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a bit bigger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37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094800" y="1143000"/>
            <a:ext cx="24696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atar optimal T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qatour" descr=""/>
          <p:cNvPicPr/>
          <p:nvPr/>
        </p:nvPicPr>
        <p:blipFill>
          <a:blip r:embed="rId1"/>
          <a:stretch/>
        </p:blipFill>
        <p:spPr>
          <a:xfrm>
            <a:off x="1028880" y="838080"/>
            <a:ext cx="4752720" cy="5410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Finlan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4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639400" y="1143000"/>
            <a:ext cx="3628080" cy="1557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 startAt="106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very good, but 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erfect ro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fitour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479772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Programmi näitemaatriks linnade vah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Neli linna ja reisimise hind nende vah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51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447920" y="228600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495288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220968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87692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2514600"/>
            <a:ext cx="2819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5181480"/>
            <a:ext cx="2667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274320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266688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980720" y="2666880"/>
            <a:ext cx="2667240" cy="2210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2743200"/>
            <a:ext cx="281916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05120" y="2041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57400" y="524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19720" y="3565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28600" y="3641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3048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28800" y="4175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24640" y="1736640"/>
            <a:ext cx="2833560" cy="25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atic int dist[][] =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{0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5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4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3}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5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9}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4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6}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3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9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6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}}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50720" y="430380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0     1     2   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2240" y="2209680"/>
            <a:ext cx="30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Programmi näitemaatriks linnade vah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õimalik tee 1: linnad 0,2,3,1,0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ind: 4+6+9+5 = 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75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447920" y="228600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495288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220968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87692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2514600"/>
            <a:ext cx="2819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5181480"/>
            <a:ext cx="2667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74320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266688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980720" y="2666880"/>
            <a:ext cx="2667240" cy="2210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2743200"/>
            <a:ext cx="281916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05120" y="2041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57400" y="524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19720" y="3565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28600" y="3641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419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2819520"/>
            <a:ext cx="0" cy="2057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5334120"/>
            <a:ext cx="2438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105520" y="2742840"/>
            <a:ext cx="0" cy="19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057040" y="2286000"/>
            <a:ext cx="2514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dcterms:modified xsi:type="dcterms:W3CDTF">2005-11-07T07:33:48Z</dcterms:modified>
  <cp:revision>249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ttu.ee/it/vorgutarkvara/wai4040/</vt:lpwstr>
  </property>
  <property fmtid="{D5CDD505-2E9C-101B-9397-08002B2CF9AE}" pid="9" name="LinkColor">
    <vt:r8>16711782</vt:r8>
  </property>
  <property fmtid="{D5CDD505-2E9C-101B-9397-08002B2CF9AE}" pid="10" name="MailAddress">
    <vt:lpwstr>tammet@cc.ttu.ee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ty\javakursu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